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.gif" ContentType="image/gif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76F3-8B66-444B-9D62-77AF9A0F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9488-B562-4B82-A6E8-9C52D8B6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E03-8011-456C-960A-4E182AF8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695-8A43-417D-865D-6512E921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924D-9D96-4C71-8C94-D0798FA0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F1D7-BE78-446A-AE5E-D9166341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007D-A7EC-4041-A868-B21C0BB4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2D5C-9E70-4C0E-B4D5-3101D4F3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4EC3-062A-440C-A8FD-11D74C07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4C1F-E43A-4E3E-946E-883F9A36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B44B-7681-4126-A2BD-F76FA80E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9F1-7BDE-4E66-B5CD-DE374A01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F340-7DDA-4AE9-B9A5-C9ABE20E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5588-3551-4B7C-B3DC-5E4CB336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FD44-70DF-4C1D-A497-092C2C75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9E26-47B5-4D6F-B717-9CF26B70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6DD2-7070-411E-9C63-3955E206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53F1D-5C73-40AF-95FA-FAC42151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DAA09-5FBB-4834-AA1F-C693CE1A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5F599-7526-4F0C-B89F-15B08F13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88314-9BE4-4944-8AD8-BB1E0FA1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1AAE4-FF94-440C-BFAD-4CB514BA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DCC1-4747-48A3-A0A5-16C6B6BB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7A692-582B-43AF-8BD6-3F8C9697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2AD85F-6C17-454E-AE68-F7149BEB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4AA78-1EAE-4A82-8E08-F2048430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4E562-4886-41A4-B0E6-C8B3CE8D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E878F-D27C-476D-A66F-EC5385A3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6347C3-C3DA-4969-BC05-4799D8F5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95E2F-3349-414E-91F6-5D818F39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4FBF8-BF13-477B-BBE7-3926411C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1AE57-1CE3-4945-B5B7-1DCDDDD6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2D75B-B5FC-455A-8315-D54769ED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112-F4A7-48F6-9FE1-D6AFBCED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25549-C923-4DD2-A947-AE0B37B5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C6E4E-5665-4FAF-8234-B1B3A635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583DB-5D8C-4427-85A4-DDD9EE73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1F667-7A1A-4CA9-8BC9-D250EF7F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E0FBE-8CC1-4EE9-800A-67BF6C94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C16CE-BCD1-4917-9833-931B61D6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DA762-D306-4A38-9A49-41B08F47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9D045-BD7C-47AC-80E6-486C7F19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47CA8-4800-4CA9-B48E-2E4B2172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6B7-2EF0-45CF-8374-F5FC3882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AFF-E5F0-4E37-82BA-56B2EA65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D0C-7205-436B-9F8C-CBB961C0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F8B-CD5D-4821-A836-4BB05435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073-DEE0-4EF0-B3AA-9C756E50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AF17-D5A7-4F92-9D09-A19DDD8C69A1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DCA1-924C-4F88-AC33-0C306FC34206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17C6-AE37-4384-A168-C0D6EA6D525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187A-3FC4-4C06-BE36-E4E82E43C73E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upload.wikimedia.org/wikipedia/commons/0/06/Mauna_Kea_cinder_cone.jpg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volcanology.geol.ucsb.edu/august2.gif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inynet.com/ccci/cpbar.gif&amp;imgrefurl=http://www.tinynet.com/basalt.html&amp;usg=__5Cvs-HW4M7TdJmf1LxEgLzppfU0=&amp;h=196&amp;w=316&amp;sz=43&amp;hl=en&amp;start=3&amp;sig2=PlOpJPSTY6IVbl3ttzilvg&amp;zoom=1&amp;um=1&amp;itbs=1&amp;tbnid=3kBmOvzFblYr6M:&amp;tbnh=73&amp;tbnw=117&amp;prev=/images%3Fq%3Dlava%2Bplateau%26um%3D1%26hl%3Den%26rls%3Dcom.microsoft:en-US%26rlz%3D1I7GGIE_en%26tbs%3Disch:1&amp;ei=SJDFTOiMNYGB8ga8xunlBA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google.com/imgres?imgurl=http://www.nsf.gov/news/mmg/media/images/CalderaRim2.jpg&amp;imgrefurl=http://www.nsf.gov/discoveries/disc_summ.jsp%3Fcntn_id%3D110651%26org%3DERE&amp;usg=__bhRx3h3VJoIO-QRaqMSe8uiwwxA=&amp;h=400&amp;w=600&amp;sz=40&amp;hl=en&amp;start=11&amp;sig2=BJaaI8hYw_KFSFGmUct9Dg&amp;zoom=1&amp;um=1&amp;itbs=1&amp;tbnid=vHrdtwmPSRwgXM:&amp;tbnh=90&amp;tbnw=135&amp;prev=/images%3Fq%3Dcaldera%26um%3D1%26hl%3Den%26rls%3Dcom.microsoft:en-US%26rlz%3D1I7GGIE_en%26tbs%3Disch:1&amp;ei=apDFTP3KCsH48Aan9IWRBQ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kidsgeo.com/images/volcanic-neck.jpg&amp;imgrefurl=http://www.kidsgeo.com/geology-for-kids/0058-volcanic-necks.php&amp;usg=__oUqNrVzB_M5DcHPPWUZrbR5ab2E=&amp;h=255&amp;w=381&amp;sz=26&amp;hl=en&amp;start=2&amp;sig2=dxlCfuQqjTCzXn0aMoFx2w&amp;zoom=1&amp;um=1&amp;itbs=1&amp;tbnid=HqvPcqQUwBW02M:&amp;tbnh=82&amp;tbnw=123&amp;prev=/images%3Fq%3Dvolcanic%2Bneck%26um%3D1%26hl%3Den%26rls%3Dcom.microsoft:en-US%26rlz%3D1I7GGIE_en%26tbs%3Disch:1&amp;ei=lJDFTKOwNIL-8Abe9dngBA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google.com/imgres?imgurl=http://www.decadevolcano.net/photos/santorini/features/santorini_15927.jpg&amp;imgrefurl=http://www.decadevolcano.net/photos/keywords/dikes.htm&amp;usg=__mSA_uC5_K-6ggwq-4YuFI4CC38o=&amp;h=484&amp;w=317&amp;sz=46&amp;hl=en&amp;start=1&amp;sig2=qW4Ip3pgXEZLHTuC-Wwuhg&amp;zoom=1&amp;um=1&amp;itbs=1&amp;tbnid=r47ZNSOopzDzIM:&amp;tbnh=129&amp;tbnw=84&amp;prev=/images%3Fq%3Dvolcanic%2Bdike%26um%3D1%26hl%3Den%26rls%3Dcom.microsoft:en-US%26rlz%3D1I7GGIE_en%26tbs%3Disch:1&amp;ei=uJDFTN3mE8H98Ab94ITtBA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www.google.com/imgres?imgurl=http://www.antarcticconnection.com/antarctic/science/images/sill_in_mtn.jpg&amp;imgrefurl=http://www.antarcticconnection.com/antarctic/science/mountains.shtml&amp;usg=__jqpg-v7kPo4K3u8qNfdXHXhRTf4=&amp;h=179&amp;w=240&amp;sz=11&amp;hl=en&amp;start=3&amp;sig2=ZbMQUFbSe6jGFirhVdRTkg&amp;zoom=1&amp;um=1&amp;itbs=1&amp;tbnid=YcXSOUxpTliwzM:&amp;tbnh=82&amp;tbnw=110&amp;prev=/images%3Fq%3Dvolcanic%2Bsill%26um%3D1%26hl%3Den%26rls%3Dcom.microsoft:en-US%26rlz%3D1I7GGIE_en%26tbs%3Disch:1&amp;ei=4ZDFTKGwMMH68Ab5ntyEBQ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valleyoutdoors.com/hikes/images/halfdome.jpg&amp;imgrefurl=http://bio-geo-terms.blogspot.com/2006_09_01_bio-geo-terms_archive.html&amp;usg=__AqHTRYKZZIClRVox4UCQLcCBIIA=&amp;h=431&amp;w=600&amp;sz=66&amp;hl=en&amp;start=3&amp;sig2=PZNToWog3yCgzaaydoMp7A&amp;zoom=1&amp;um=1&amp;itbs=1&amp;tbnid=iupC2NzGFbIARM:&amp;tbnh=97&amp;tbnw=135&amp;prev=/images%3Fq%3Dvolcanic%2Bbatholith%26um%3D1%26hl%3Den%26sa%3DX%26rls%3Dcom.microsoft:en-US%26rlz%3D1I7GGIE_en%26tbs%3Disch:1&amp;ei=CJHFTOuxJsP78Ab2lfn3BA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com/imgres?imgurl=http://www.bisordi.org/yosemite/images/quarter_dome_base.jpg&amp;imgrefurl=http://www.bisordi.org/yosemite/&amp;usg=__1nvEh6_iqLF1_Jzb0599DovUQ5A=&amp;h=600&amp;w=800&amp;sz=142&amp;hl=en&amp;start=1&amp;sig2=24jHNojNikAO1Nczz_9WFQ&amp;zoom=1&amp;um=1&amp;itbs=1&amp;tbnid=awI50ABaMpthEM:&amp;tbnh=107&amp;tbnw=143&amp;prev=/images%3Fq%3Ddome%2Bmountain%26um%3D1%26hl%3Den%26rls%3Dcom.microsoft:en-US%26rlz%3D1I7GGIE_en%26tbs%3Disch:1&amp;ei=JJHFTMv7BIH78AaqxfDXB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Volcanoe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Chapter 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4. Steps of a Volcanic Erup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44756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solved gases are trapped in magma and are under tremendous press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 magma rises toward the surface, the pressure of the surrounding rock on the magma decreases; the dissolved gases expand and form bubbl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5560" indent="-5144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he size of the bubbles greatly increases and exert an enormous forc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a volcano erupts, the force of the expanding gases pushes magma from the magma chamber through the pipe until it flows or explodes out of the vent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olcanic Erup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7" name="Picture 15" descr="Volcanoes_Erupt_sx5131b3"/>
          <p:cNvPicPr/>
          <p:nvPr/>
        </p:nvPicPr>
        <p:blipFill>
          <a:blip r:embed="rId1"/>
          <a:stretch/>
        </p:blipFill>
        <p:spPr>
          <a:xfrm>
            <a:off x="3657600" y="762120"/>
            <a:ext cx="5237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Kinds of Erup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066680"/>
            <a:ext cx="800100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5960" indent="-5090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Quiet eruptio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If magma is low in silica. Has low viscosity and flows easily. Gas bubble out quietly. Can produce both pahoehoe and aa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615960" indent="-5090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Explosive Eruptio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If magma is high in silica. Has high viscosity, and is thick and sticky. Dissolved gases cannot escape from the thick magma and build up pressure until they explode.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mallest= volcanic ash. Pebble-sized= cinders. Larger pieces= bombs (size of baseball to a car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yroclastic flow- occurs when an explosive eruption hurls out a mixture of hot gases, ash, cinders, and bomb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615960" indent="-5090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15960" indent="-50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16"/>
          <p:cNvGrpSpPr/>
          <p:nvPr/>
        </p:nvGrpSpPr>
        <p:grpSpPr>
          <a:xfrm>
            <a:off x="1600200" y="2209680"/>
            <a:ext cx="5943600" cy="4152960"/>
            <a:chOff x="1600200" y="2209680"/>
            <a:chExt cx="5943600" cy="4152960"/>
          </a:xfrm>
        </p:grpSpPr>
        <p:sp>
          <p:nvSpPr>
            <p:cNvPr id="241" name="Rectangle 13"/>
            <p:cNvSpPr/>
            <p:nvPr/>
          </p:nvSpPr>
          <p:spPr>
            <a:xfrm>
              <a:off x="1600200" y="2209680"/>
              <a:ext cx="5943600" cy="411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Picture 14" descr="Volcanoes_Timeline2A_sx5830a3"/>
            <p:cNvPicPr/>
            <p:nvPr/>
          </p:nvPicPr>
          <p:blipFill>
            <a:blip r:embed="rId1"/>
            <a:stretch/>
          </p:blipFill>
          <p:spPr>
            <a:xfrm>
              <a:off x="1730160" y="2251080"/>
              <a:ext cx="5531040" cy="411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olcanic Erup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371240"/>
            <a:ext cx="8229600" cy="52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ithin the last 150 years, major volcanic eruptions have greatly affected the land and people around them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17" descr="Volcanoes_Timeline2B_sx5830a3"/>
          <p:cNvPicPr/>
          <p:nvPr/>
        </p:nvPicPr>
        <p:blipFill>
          <a:blip r:embed="rId2"/>
          <a:stretch/>
        </p:blipFill>
        <p:spPr>
          <a:xfrm>
            <a:off x="1752480" y="2197080"/>
            <a:ext cx="3364200" cy="3841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8" descr="Volcanoes_Timeline2C_sx5830a3"/>
          <p:cNvPicPr/>
          <p:nvPr/>
        </p:nvPicPr>
        <p:blipFill>
          <a:blip r:embed="rId3"/>
          <a:stretch/>
        </p:blipFill>
        <p:spPr>
          <a:xfrm>
            <a:off x="3352680" y="2349360"/>
            <a:ext cx="2614680" cy="3692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9" descr="Volcanoes_Timeline2D_sx5830a3"/>
          <p:cNvPicPr/>
          <p:nvPr/>
        </p:nvPicPr>
        <p:blipFill>
          <a:blip r:embed="rId4"/>
          <a:stretch/>
        </p:blipFill>
        <p:spPr>
          <a:xfrm>
            <a:off x="5133960" y="3124080"/>
            <a:ext cx="22575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tages of Volcanic Activit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23880"/>
            <a:ext cx="822960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eologists often use the terms active, dormant, or extinct to describe a volcano’s stage of activ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Activ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 live- one that is erupting or has shown signs that it may erupt in the near fu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Dorma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 sleeping- one that is expected to awaken in the future and become ac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Extinc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r dead- unlikely to erupt aga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0520" y="609480"/>
            <a:ext cx="66294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97240" indent="-4935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Landforms from Lava and Ash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Shield volcanoes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885240" indent="-209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hin layers of lava pour out of a vent and harden on top of previous layers; forms a wide, gently sloping mountai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Cinder-cone volcanoes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885240" indent="-209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 steep, cone-shaped hill or small mountain that is built up by ash, cinders, and bomb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Composite volcanoes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885240" indent="-209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when lava flows alternate between explosive eruptions and quiet eruptions of ash, cinder, and bombs. Tall, cone-shaped mountains in which layers of lava alternate with layers of ash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885240" indent="-209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51" name="Picture 4" descr="http://www.quickandeasyscienceexperimentsblog.com/wp-content/uploads/2010/06/mauna-loa-shield-volcano.jpg"/>
          <p:cNvPicPr/>
          <p:nvPr/>
        </p:nvPicPr>
        <p:blipFill>
          <a:blip r:embed="rId1"/>
          <a:stretch/>
        </p:blipFill>
        <p:spPr>
          <a:xfrm>
            <a:off x="6934320" y="1066680"/>
            <a:ext cx="1971720" cy="1597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File:Mauna Kea cinder con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34320" y="2971800"/>
            <a:ext cx="2193840" cy="13716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34320" y="4800600"/>
            <a:ext cx="2055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762120"/>
            <a:ext cx="64771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558720" indent="-209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Lava plateaus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783720" indent="-18576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igh, level areas of many layers of thin, runny lava that erupt from long cracks in the ground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558720" indent="-209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Calderas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783720" indent="-18576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he huge hole left by the collapse of a volcanic mountain. The hole is filled with pieces of the volcano that have fallen inward, as well as some lava and ash. 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sp>
        <p:nvSpPr>
          <p:cNvPr id="255" name="Content Placeholder 2"/>
          <p:cNvSpPr/>
          <p:nvPr/>
        </p:nvSpPr>
        <p:spPr>
          <a:xfrm>
            <a:off x="685800" y="4572000"/>
            <a:ext cx="7543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ople often settle close to volcanoes to take advantage of the fertile volcanic soil. Some volcanic soils are among the richest in the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http://t2.gstatic.com/images?q=tbn:3kBmOvzFblYr6M:http://www.tinynet.com/ccci/cpbar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838080"/>
            <a:ext cx="2076480" cy="1295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http://t1.gstatic.com/images?q=tbn:vHrdtwmPSRwgXM:http://www.nsf.gov/news/mmg/media/images/CalderaRim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274320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685440"/>
            <a:ext cx="68580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Volcanic Landforms from Magma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Volcanic necks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forms when magma hardens in a volcano’s pipe (looks like a giant tooth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Dike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magma that forces itself across rock layers and hardens; can be seen slanting through bedrock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Sil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when magma squeezes between horizontal layers of rock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59" name="Picture 4" descr="http://t3.gstatic.com/images?q=tbn:HqvPcqQUwBW02M:http://www.kidsgeo.com/images/volcanic-neck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17524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http://t1.gstatic.com/images?q=tbn:r47ZNSOopzDzIM:http://www.decadevolcano.net/photos/santorini/features/santorini_1592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3124080"/>
            <a:ext cx="990360" cy="1521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http://t2.gstatic.com/images?q=tbn:YcXSOUxpTliwzM:http://www.antarcticconnection.com/antarctic/science/images/sill_in_mtn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81680" y="4876920"/>
            <a:ext cx="2146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240" y="838080"/>
            <a:ext cx="701028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Batholiths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 mass of rock formed when a large body of magma cools inside the crust; often form the core of many mountain range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Dome mountains-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maller bodies of hardened magma; forms when uplift pushes a batholith or smaller body toward the surface. The hardened magma forces the layers of rock to bend upward into a dome shape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63" name="Picture 4" descr="http://t2.gstatic.com/images?q=tbn:iupC2NzGFbIARM:http://www.valleyoutdoors.com/hikes/images/halfdom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1066680"/>
            <a:ext cx="1803240" cy="1295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http://t1.gstatic.com/images?q=tbn:awI50ABaMpthEM:http://www.bisordi.org/yosemite/images/quarter_dome_bas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1680" y="3429000"/>
            <a:ext cx="2138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eothermal Activit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152352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98680" indent="-49356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geothermal activity, magma a few kilometers beneath Earth’s surface heats underground water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Hot Springs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 forms when groundwater is heated by a nearby body of magma or by hot rock deep underground. Water collects in a natural poo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Geyers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- a fountain of water and steam that erupts from the ground; pressure builds until the mixture suddenly spray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438086"/>
                </a:solidFill>
                <a:uFillTx/>
                <a:latin typeface="Georgia"/>
              </a:rPr>
              <a:t>Geothermal energy-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n energy source that people us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67" name="Picture 5" descr="http://t2.gstatic.com/images?q=tbn:M_Oe4wQyzH9kXM:http://i603.photobucket.com/albums/tt112/ausador/geyser.jpg"/>
          <p:cNvPicPr/>
          <p:nvPr/>
        </p:nvPicPr>
        <p:blipFill>
          <a:blip r:embed="rId1"/>
          <a:stretch/>
        </p:blipFill>
        <p:spPr>
          <a:xfrm>
            <a:off x="7924680" y="4114800"/>
            <a:ext cx="1038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olcano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828440"/>
            <a:ext cx="82296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volcan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a weak spot in the crust where molten material, or magma, comes to the surfa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agma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the molten mixture of rock-forming substances, gases, and water from the mant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ce it has reached the surface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lav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14400" indent="-514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olid rock forms once lava cool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olcanoes and Plate Boundari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765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92560" indent="-4885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Volcanic belts form along the boundaries or Earth’s plate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92560" indent="-4885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Ring of Fire-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rmed by many volcanoes that rim the Pacific Ocea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92560" indent="-4885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iverging boundaries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Volcanoes form along mid-ocean ridges, rift valley’s, Great Rift Valley in East Africa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592560" indent="-4885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onverging boundaries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Volcanoes often form where two oceanic plates collide or where an oceanic plate collides with a continental plate. In both situations, an oceanic plate sinks through a trench. Rock above the plate melts to form magma, which then erupts to the surface as lava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Island arc- echoes curve of deep-ocean trench (Japan, New Zealand, Indonesia, etc.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24240" indent="-2336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592560" indent="-4885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592560" indent="-4885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Volcanoes at Converging Boundarie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1" name="Picture 10" descr="Volcanoes_ANI-conbound_sx5133b3"/>
          <p:cNvPicPr/>
          <p:nvPr/>
        </p:nvPicPr>
        <p:blipFill>
          <a:blip r:embed="rId1"/>
          <a:stretch/>
        </p:blipFill>
        <p:spPr>
          <a:xfrm>
            <a:off x="1219320" y="2133720"/>
            <a:ext cx="60418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t Spot Volcano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32004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92560" indent="-488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Hot Spot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s an area where material from deep within the mantle rises and then melts, forming magm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24240" indent="-2426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 volcano forms above a hot spot when magma erupts through the crust and reaches the surface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592560" indent="-4885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4" name="Picture 5" descr="Volcanoes_HotSpot_sx5138a3"/>
          <p:cNvPicPr/>
          <p:nvPr/>
        </p:nvPicPr>
        <p:blipFill>
          <a:blip r:embed="rId1"/>
          <a:stretch/>
        </p:blipFill>
        <p:spPr>
          <a:xfrm>
            <a:off x="3733920" y="2743200"/>
            <a:ext cx="4836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iscosit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Viscosity-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the resistance of a liquid to flow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ome liquids flow more easily than other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reater the viscosity- the slower it flow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(ex. Honey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04da3"/>
                </a:solidFill>
                <a:latin typeface="Georgia"/>
              </a:rPr>
              <a:t>Why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he movement of the particles that make up each type of liquid affects viscosity. The greater friction among the liquid’s particles, the higher the viscosity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iscosity of Magm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447560"/>
            <a:ext cx="68580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viscosity of magma depends on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ilica cont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ore silica = higher viscosit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light-colored and does not flow very f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Less silica = lower viscosit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, dark-colored and flows readi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8" descr="Volcanoes_MagmaPies_sx5407a3"/>
          <p:cNvPicPr/>
          <p:nvPr/>
        </p:nvPicPr>
        <p:blipFill>
          <a:blip r:embed="rId1"/>
          <a:stretch/>
        </p:blipFill>
        <p:spPr>
          <a:xfrm>
            <a:off x="6553080" y="3733920"/>
            <a:ext cx="236232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Viscosity of Magm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371600"/>
            <a:ext cx="82296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cosity increases as temperature decrea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emperature differences produce two different types of lava: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3548a"/>
                </a:solidFill>
                <a:uFillTx/>
                <a:latin typeface="Georgia"/>
              </a:rPr>
              <a:t>Pahoehoe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- fast-moving, hot lava with low viscosity; solid mass of wrinkles, billows, etc. 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53548a"/>
                </a:solidFill>
                <a:uFillTx/>
                <a:latin typeface="Georgia"/>
              </a:rPr>
              <a:t>Aa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- cooler and slower-moving; has a higher viscosity; forms a rough surface of jagged lava chunk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14. Steps of a Volcanic Erup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371240"/>
            <a:ext cx="8229600" cy="52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va begins as magma, which usually forms in the asthenosphe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925560" indent="-5144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Liquid magma is less dense than the solid material around it therefore magma flows upward into any cracks in the rock abov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side a volcano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925560" indent="-5144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Beneath a volcano, magma collects in a packet called the magma chamber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925560" indent="-5144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Magma moves upward through  a pipe, a long tube in the ground that connects that magma chamber to Earth’s surfac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925560" indent="-5144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Vent- an opening where molten rock and gas leave the volcano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925560" indent="-5144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Lava flow- the area covered by lava as it pours out of a vent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925560" indent="-5144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Crater- bowl-shaped area that may form at the top around the central vent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1T21:23:24Z</dcterms:created>
  <dc:creator>Falcon School District 49</dc:creator>
  <dc:description/>
  <dc:language>en-US</dc:language>
  <cp:lastModifiedBy>Falcon School District 49</cp:lastModifiedBy>
  <dcterms:modified xsi:type="dcterms:W3CDTF">2010-10-25T14:17:27Z</dcterms:modified>
  <cp:revision>18</cp:revision>
  <dc:subject/>
  <dc:title>Volcanoes</dc:title>
</cp:coreProperties>
</file>